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5DAA5-1D4B-4B76-B3D6-B69A19AF9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8"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9"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EA4B-5AEE-4051-8582-EE240FA8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1"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4"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8A754-C40D-4BD1-8356-4FC8A392E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6"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1"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F4C39-8156-4402-A1A4-292AF4D0D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7"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1F2F-6EF5-4000-8B54-C3BF713F5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9"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BF2B-C85F-4D09-8780-35C40E34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1"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2"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2794-81E7-41A9-B118-F29CE25AB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2FC7-B240-46DE-8722-4E9BE3AC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FC20D-3C3B-40B8-90E5-CC925ED2E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6"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8"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1DA5-FB8C-46C7-B867-0C4012C8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2"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312F-3680-4A8F-AEEE-B5539E21C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4"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6"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7E5C-0833-4BDE-AFB5-03EBC007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2C33-1191-4711-A880-6414F1DB352F}" type="slidenum">
              <a:rPr b="1" lang="en-GB"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5867280"/>
            <a:ext cx="3348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419640" y="1125360"/>
            <a:ext cx="518472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71"/>
                </a:solidFill>
                <a:latin typeface="Verdana"/>
              </a:rPr>
              <a:t>Joint Workshop between EMSA and DG Environ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ordinated at-sea and shoreline pollution respo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8c7"/>
                </a:solidFill>
                <a:latin typeface="Verdana"/>
              </a:rPr>
              <a:t>Lisbon, 30 June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3349800" y="3741840"/>
            <a:ext cx="180720" cy="64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994439B-578D-4CA8-812E-75109A5FF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7) What further equipment/resources (if any) may be needed from other countries in the framework of Regional Agreements or subregional plans/agreements? </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Modelling:  coordinate between effected countries</a:t>
            </a:r>
            <a:endParaRPr b="0" lang="en-US" sz="2000" spc="-1" strike="noStrike">
              <a:solidFill>
                <a:srgbClr val="002b71"/>
              </a:solidFill>
              <a:latin typeface="Verdana"/>
            </a:endParaRPr>
          </a:p>
          <a:p>
            <a:pPr lvl="1" marL="8380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onsider to establish modelling task force of modellers from involved countries</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ctivate Bonn Agreement to</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12989EE-4CEE-4E7C-8E3E-242409CC7F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8) How is this assistance requested/mobilised and are there any limitations?</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Bonn Agreement</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Manche Plan</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DENGERNET</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9C8EC987-C9A1-4AA3-84D4-B2F495F30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9) Is additional advice/data/assistance needed through MIC/EMSA? If yes, what assistance would be requested at EU level?</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Early in spill:</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Request CSN images</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Notify MIC; request EMSA assistanc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1A41BC05-9B0A-47A8-9015-1418E1B12B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0) When and how is EU assistance requested (e.g.    hours/days after accident)?</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mmediately after determination that additional resources may be require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D6B61B2-F1C6-4D31-A9F7-0C55EC628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7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1) If EU assistance is requested for the response both at sea and onshore, which authority (marine pollution or civil protection) would be the main contact point for the MIC?</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Belgium:  Nat. contact point marine pollution: MIK</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UK: MCA, local authorities</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e Netherlands:  Coast Guard Centr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1C1EA00F-8704-4737-851A-BC3B5BC98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7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2) Is additional advice/data/assistance needed through or other organisations? If yes, what assistance would be requested and how is it requested/mobilise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4FC98B50-0D0B-4FE3-B12D-57C5E2883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8c7"/>
                </a:solidFill>
                <a:uFillTx/>
                <a:latin typeface="Verdana"/>
              </a:rPr>
              <a:t>Identify gaps, suggestions and areas for improvement in at-sea/shoreline co-ordination on the above three levels</a:t>
            </a:r>
            <a:r>
              <a:rPr b="1" lang="en-US" sz="2400" spc="-1" strike="noStrike">
                <a:solidFill>
                  <a:srgbClr val="0078c7"/>
                </a:solidFill>
                <a:latin typeface="Verdana"/>
              </a:rPr>
              <a:t>: </a:t>
            </a:r>
            <a:endParaRPr b="1" lang="en-US" sz="2400" spc="-1" strike="noStrike">
              <a:solidFill>
                <a:srgbClr val="0078c7"/>
              </a:solidFill>
              <a:latin typeface="Verdana"/>
            </a:endParaRPr>
          </a:p>
        </p:txBody>
      </p:sp>
      <p:sp>
        <p:nvSpPr>
          <p:cNvPr id="7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How could co-ordination between the civil protection and marine pollution communities be improved, both nationally and through engagement with Regional Agreements and EU institutions? Are there any potential new areas of cooperation or activities at national, regional or European level for at-sea/shoreline preparedness and response (expertise, equipment sharing, etc)?</a:t>
            </a:r>
            <a:endParaRPr b="0" lang="en-US" sz="2000" spc="-1" strike="noStrike">
              <a:solidFill>
                <a:srgbClr val="002b71"/>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lgn="just">
              <a:spcBef>
                <a:spcPts val="499"/>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Consider to establish a task force for modelling</a:t>
            </a:r>
            <a:endParaRPr b="0" lang="en-US" sz="2000" spc="-1" strike="noStrike">
              <a:solidFill>
                <a:srgbClr val="002b71"/>
              </a:solidFill>
              <a:latin typeface="Verdana"/>
            </a:endParaRPr>
          </a:p>
          <a:p>
            <a:pPr marL="343080" indent="-343080" algn="just">
              <a:spcBef>
                <a:spcPts val="499"/>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lready in place in Belgium</a:t>
            </a:r>
            <a:endParaRPr b="0" lang="en-US" sz="2000" spc="-1" strike="noStrike">
              <a:solidFill>
                <a:srgbClr val="002b71"/>
              </a:solidFill>
              <a:latin typeface="Verdana"/>
            </a:endParaRPr>
          </a:p>
          <a:p>
            <a:pPr lvl="1" marL="743040" indent="-285840" algn="just">
              <a:spcBef>
                <a:spcPts val="499"/>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haring of contingency plans</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A3D8FD45-3517-49B1-A33C-B9D6E998EF8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8c7"/>
                </a:solidFill>
                <a:latin typeface="Verdana"/>
              </a:rPr>
              <a:t>Participants Group B: North Sea</a:t>
            </a:r>
            <a:endParaRPr b="1" lang="en-US" sz="2800" spc="-1" strike="noStrike">
              <a:solidFill>
                <a:srgbClr val="0078c7"/>
              </a:solidFill>
              <a:latin typeface="Verdana"/>
            </a:endParaRPr>
          </a:p>
        </p:txBody>
      </p:sp>
      <p:sp>
        <p:nvSpPr>
          <p:cNvPr id="46" name="PlaceHolder 2"/>
          <p:cNvSpPr>
            <a:spLocks noGrp="1"/>
          </p:cNvSpPr>
          <p:nvPr>
            <p:ph/>
          </p:nvPr>
        </p:nvSpPr>
        <p:spPr>
          <a:xfrm>
            <a:off x="394920" y="2060640"/>
            <a:ext cx="82803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Facilitator – Walter Nordhausen (EMSA)</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BE - Eric Donnay - Federal Public Service Health – DG Environment Belgium</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FR - Philippe Estiez - DSc Interior Ministry &amp; Gaelle Bailly - CEPPOL-French Navy-Defense Ministry </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IS - Gottskalk Fridgeirsson - Environment Agency of Iceland</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NL - Theo Kramer &amp; Jan Kool - Ministry of Transport, Public Works and Water Management - Rijkswaterstaat</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b71"/>
                </a:solidFill>
                <a:latin typeface="Verdana"/>
              </a:rPr>
              <a:t>NO - Ole Kristian Bjerkemo  - Norwegian Coastal Administration</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b71"/>
                </a:solidFill>
                <a:latin typeface="Verdana"/>
              </a:rPr>
              <a:t>ES - Juan Otero – DGMM,  Juan Carlos Crespo – SASEMAR</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UK - Kevin Colcomb, Ian Jackson – UK Maritime &amp; Coastguard Agency</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568A7B80-B620-41C1-B21C-68292A66D6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98064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8c7"/>
                </a:solidFill>
                <a:latin typeface="Verdana"/>
              </a:rPr>
              <a:t>Scenario Group B : </a:t>
            </a:r>
            <a:r>
              <a:rPr b="1" lang="en-US" sz="2800" spc="-1" strike="noStrike">
                <a:solidFill>
                  <a:srgbClr val="0078c7"/>
                </a:solidFill>
                <a:latin typeface="Verdana"/>
              </a:rPr>
              <a:t>North Sea</a:t>
            </a:r>
            <a:endParaRPr b="1" lang="en-US" sz="2800" spc="-1" strike="noStrike">
              <a:solidFill>
                <a:srgbClr val="0078c7"/>
              </a:solidFill>
              <a:latin typeface="Verdana"/>
            </a:endParaRPr>
          </a:p>
        </p:txBody>
      </p:sp>
      <p:sp>
        <p:nvSpPr>
          <p:cNvPr id="48" name="PlaceHolder 2"/>
          <p:cNvSpPr>
            <a:spLocks noGrp="1"/>
          </p:cNvSpPr>
          <p:nvPr>
            <p:ph/>
          </p:nvPr>
        </p:nvSpPr>
        <p:spPr>
          <a:xfrm>
            <a:off x="609480" y="1773360"/>
            <a:ext cx="7772400" cy="455112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71"/>
                </a:solidFill>
                <a:latin typeface="Verdana"/>
              </a:rPr>
              <a:t>5 hours</a:t>
            </a:r>
            <a:r>
              <a:rPr b="0" lang="en-US" sz="2000" spc="-1" strike="noStrike">
                <a:solidFill>
                  <a:srgbClr val="002b71"/>
                </a:solidFill>
                <a:latin typeface="Verdana"/>
              </a:rPr>
              <a:t> ago the BETA oil tanker (deadweight tonnage of 100.000), which was en route to Rotterdam, following a loss of steering collided with a dredger approximately </a:t>
            </a:r>
            <a:r>
              <a:rPr b="1" lang="en-US" sz="2000" spc="-1" strike="noStrike">
                <a:solidFill>
                  <a:srgbClr val="002b71"/>
                </a:solidFill>
                <a:latin typeface="Verdana"/>
              </a:rPr>
              <a:t>50km off the coast of Belgium</a:t>
            </a:r>
            <a:r>
              <a:rPr b="0" lang="en-US" sz="2000" spc="-1" strike="noStrike">
                <a:solidFill>
                  <a:srgbClr val="002b71"/>
                </a:solidFill>
                <a:latin typeface="Verdana"/>
              </a:rPr>
              <a:t> (51°40’N; 02°30’E) resulting in 4 bottom tanks being holed.</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pproximately </a:t>
            </a:r>
            <a:r>
              <a:rPr b="1" lang="en-US" sz="2000" spc="-1" strike="noStrike">
                <a:solidFill>
                  <a:srgbClr val="002b71"/>
                </a:solidFill>
                <a:latin typeface="Verdana"/>
              </a:rPr>
              <a:t>20.000 tons of heavy crude</a:t>
            </a:r>
            <a:r>
              <a:rPr b="0" lang="en-US" sz="2000" spc="-1" strike="noStrike">
                <a:solidFill>
                  <a:srgbClr val="002b71"/>
                </a:solidFill>
                <a:latin typeface="Verdana"/>
              </a:rPr>
              <a:t> oil spilled into the sea.</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pproximately </a:t>
            </a:r>
            <a:r>
              <a:rPr b="1" lang="en-US" sz="2000" spc="-1" strike="noStrike">
                <a:solidFill>
                  <a:srgbClr val="002b71"/>
                </a:solidFill>
                <a:latin typeface="Verdana"/>
              </a:rPr>
              <a:t>500 kilometres</a:t>
            </a:r>
            <a:r>
              <a:rPr b="0" lang="en-US" sz="2000" spc="-1" strike="noStrike">
                <a:solidFill>
                  <a:srgbClr val="002b71"/>
                </a:solidFill>
                <a:latin typeface="Verdana"/>
              </a:rPr>
              <a:t> of European shoreline (in </a:t>
            </a:r>
            <a:r>
              <a:rPr b="1" lang="en-US" sz="2000" spc="-1" strike="noStrike">
                <a:solidFill>
                  <a:srgbClr val="002b71"/>
                </a:solidFill>
                <a:latin typeface="Verdana"/>
              </a:rPr>
              <a:t>Denmark, France, Belgium and the UK</a:t>
            </a:r>
            <a:r>
              <a:rPr b="0" lang="en-US" sz="2000" spc="-1" strike="noStrike">
                <a:solidFill>
                  <a:srgbClr val="002b71"/>
                </a:solidFill>
                <a:latin typeface="Verdana"/>
              </a:rPr>
              <a:t>) are at risk of being contaminated from oil reaching shore.</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71"/>
                </a:solidFill>
                <a:latin typeface="Verdana"/>
              </a:rPr>
              <a:t>Current situation: time = spill + 5 hours</a:t>
            </a:r>
            <a:r>
              <a:rPr b="0" lang="en-US" sz="2000" spc="-1" strike="noStrike">
                <a:solidFill>
                  <a:srgbClr val="002b71"/>
                </a:solidFill>
                <a:latin typeface="Verdana"/>
              </a:rPr>
              <a:t>. Although local response may already be underway, overall response strategy is still to be determined.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2A1E744B-73BC-4276-BDB5-C1FD3AEA19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380880">
              <a:lnSpc>
                <a:spcPct val="90000"/>
              </a:lnSpc>
              <a:spcBef>
                <a:spcPts val="451"/>
              </a:spcBef>
              <a:buClr>
                <a:srgbClr val="002b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What is/will be the chosen response strategy in the countries affected (or at risk of being affected)?</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Belgium notifies neighbouring countries, MIC, request CSN support</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Belgium takes responsibility for Belgian waters</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Determine type of cargo</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Determine condition on tanker</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Mobilise mechanical recovery</a:t>
            </a:r>
            <a:endParaRPr b="0" lang="en-US" sz="1800" spc="-1" strike="noStrike">
              <a:solidFill>
                <a:srgbClr val="002b71"/>
              </a:solidFill>
              <a:latin typeface="Verdana"/>
            </a:endParaRPr>
          </a:p>
          <a:p>
            <a:pPr lvl="1" marL="8380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Vessel may mobilise own response</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tabilize situation (salvage, lightering)</a:t>
            </a: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UK offers test spraying of dispersants</a:t>
            </a:r>
            <a:endParaRPr b="0" lang="en-US" sz="1800" spc="-1" strike="noStrike">
              <a:solidFill>
                <a:srgbClr val="002b71"/>
              </a:solidFill>
              <a:latin typeface="Verdana"/>
            </a:endParaRPr>
          </a:p>
          <a:p>
            <a:pPr lvl="1" marL="8380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Need to determine effectiveness </a:t>
            </a:r>
            <a:endParaRPr b="0" lang="en-US" sz="1800" spc="-1" strike="noStrike">
              <a:solidFill>
                <a:srgbClr val="002b71"/>
              </a:solidFill>
              <a:latin typeface="Verdana"/>
            </a:endParaRPr>
          </a:p>
          <a:p>
            <a:pPr lvl="1" marL="8380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UK will mobilise spraying in their waters if tests are positive</a:t>
            </a: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8BDBB9A1-8D99-4B04-BD01-035FDA684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2) Which authorities are in charge of selecting the response strategy?</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Belgium National Contingency Plan will be activated</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North Sea Disaster Plan</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The Netherlands: Rijkswaterstaat</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UK: MCA activate nat. response plan</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Establish command centre</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Move stockpiles to east coast</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France: Maritime Prefecture North Sea</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Manche Plan</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AA7A836-21CD-4655-9D93-6068DE0FE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3) What national response resources/operations will be put in place both at-sea and on the shoreline in affected countries? Give a brief description.</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Belgium: Preventive measure begin immediately</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45E1274-F03F-47A9-8ECA-B1882828BE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4) Which authority/ies are in the lead of the response at sea and on the shoreline?</a:t>
            </a:r>
            <a:endParaRPr b="0" lang="en-US" sz="2000" spc="-1" strike="noStrike">
              <a:solidFill>
                <a:srgbClr val="002b71"/>
              </a:solidFill>
              <a:latin typeface="Verdana"/>
            </a:endParaRPr>
          </a:p>
          <a:p>
            <a:pPr marL="335880" indent="-3358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Belgium:</a:t>
            </a:r>
            <a:endParaRPr b="0" lang="en-US" sz="2000" spc="-1" strike="noStrike">
              <a:solidFill>
                <a:srgbClr val="002b71"/>
              </a:solidFill>
              <a:latin typeface="Verdana"/>
            </a:endParaRPr>
          </a:p>
          <a:p>
            <a:pPr lvl="1" marL="727920" indent="-280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a: FPS</a:t>
            </a:r>
            <a:endParaRPr b="0" lang="en-US" sz="2000" spc="-1" strike="noStrike">
              <a:solidFill>
                <a:srgbClr val="002b71"/>
              </a:solidFill>
              <a:latin typeface="Verdana"/>
            </a:endParaRPr>
          </a:p>
          <a:p>
            <a:pPr lvl="1" marL="727920" indent="-280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hore: Civil Protection</a:t>
            </a:r>
            <a:endParaRPr b="0" lang="en-US" sz="2000" spc="-1" strike="noStrike">
              <a:solidFill>
                <a:srgbClr val="002b71"/>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35880" indent="-3358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Netherlands:</a:t>
            </a:r>
            <a:endParaRPr b="0" lang="en-US" sz="2000" spc="-1" strike="noStrike">
              <a:solidFill>
                <a:srgbClr val="002b71"/>
              </a:solidFill>
              <a:latin typeface="Verdana"/>
            </a:endParaRPr>
          </a:p>
          <a:p>
            <a:pPr lvl="1" marL="727920" indent="-280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a and Shore: Rijkswaterstaat</a:t>
            </a:r>
            <a:endParaRPr b="0" lang="en-US" sz="2000" spc="-1" strike="noStrike">
              <a:solidFill>
                <a:srgbClr val="002b71"/>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35880" indent="-3358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UK:  </a:t>
            </a:r>
            <a:endParaRPr b="0" lang="en-US" sz="2000" spc="-1" strike="noStrike">
              <a:solidFill>
                <a:srgbClr val="002b71"/>
              </a:solidFill>
              <a:latin typeface="Verdana"/>
            </a:endParaRPr>
          </a:p>
          <a:p>
            <a:pPr lvl="1" marL="727920" indent="-280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a: MCA</a:t>
            </a:r>
            <a:endParaRPr b="0" lang="en-US" sz="2000" spc="-1" strike="noStrike">
              <a:solidFill>
                <a:srgbClr val="002b71"/>
              </a:solidFill>
              <a:latin typeface="Verdana"/>
            </a:endParaRPr>
          </a:p>
          <a:p>
            <a:pPr lvl="1" marL="727920" indent="-280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hore: local authorities</a:t>
            </a:r>
            <a:endParaRPr b="0" lang="en-US" sz="2000" spc="-1" strike="noStrike">
              <a:solidFill>
                <a:srgbClr val="002b71"/>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4F5C1EA2-6A52-4CED-BEA4-7D7D365FD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5) Is a choice of response strategy pre-defined or discussed at regional level in the framework of Regional Agreements or subregional plans/agreements? </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No predefined response strategy, but RA</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F97098A9-D18A-4C8E-AFB8-260C053CB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6) Is environmental advice/data needed from other countries in the framework of Regional Agreements or subregional plans/agreements and if yes, how is it requested/mobilised?</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MCA: establish EG, cooperate with others, sharing of information</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nd liaison officer(s)</a:t>
            </a: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Exchange data on sensitive sites</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B4AC9F84-F48B-413A-A6EE-A542275E9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1:05:30Z</dcterms:created>
  <dc:creator>guegast</dc:creator>
  <dc:description/>
  <dc:language>en-US</dc:language>
  <cp:lastModifiedBy>SSE</cp:lastModifiedBy>
  <cp:lastPrinted>2004-03-26T09:05:49Z</cp:lastPrinted>
  <dcterms:modified xsi:type="dcterms:W3CDTF">2009-07-14T10:48:37Z</dcterms:modified>
  <cp:revision>345</cp:revision>
  <dc:subject/>
  <dc:title>Slide 1</dc:title>
</cp:coreProperties>
</file>